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.jpeg" ContentType="image/jpeg"/>
  <Override PartName="/ppt/media/image22.wmf" ContentType="image/x-wmf"/>
  <Override PartName="/ppt/media/image21.jpeg" ContentType="image/jpeg"/>
  <Override PartName="/ppt/media/image16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26.wmf" ContentType="image/x-wmf"/>
  <Override PartName="/ppt/media/image15.jpeg" ContentType="image/jpeg"/>
  <Override PartName="/ppt/media/image14.png" ContentType="image/png"/>
  <Override PartName="/ppt/media/image2.jpeg" ContentType="image/jpeg"/>
  <Override PartName="/ppt/media/image23.jpeg" ContentType="image/jpeg"/>
  <Override PartName="/ppt/media/image2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AB0D-1F84-46E8-94D7-24BE3B4CF0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1309-F1E8-48A9-AE3C-8C0DB193A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A77B-01C7-4FF4-B0F9-48724BFC1BA6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7692-01D9-4D2D-835E-31F4FBCDFEFD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1ABD-DD12-4910-BF79-D31E19EF8D88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7ED4-368C-4A77-ADBA-FDD5D62EC119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5FBE-C17E-4154-903C-8B417187F40B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B518-432A-48D2-9705-2344CBE2E14F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464B-30E0-48A2-B8D0-866B520D8BAD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6E4F-CB23-4612-B2D7-151285A8D7C8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96F2-7179-4DC4-B20B-DAA7FC9CB3D1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CBFB-66ED-42BD-A538-1AB9DDEBDD9F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C74E-A896-4D3F-9DA3-65737DC9BACC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A650-E924-4354-9F3E-F4F36C9E7A4B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7726-1CE4-4EB3-B72E-45EFC531C550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2E37-DB1C-4610-B9FF-6844A653E26A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6901-F260-49E5-A90B-F9757F895C49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86CE-9D0B-45AF-8D0F-F701ED6FA255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C12A-6714-4A7F-9176-A88FFD662945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8CD5-AD80-41A1-B1A1-E406CC864095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D1F3-A049-4FF6-8737-3F3A5C62BC06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10AD-9E5F-4C84-8850-517536CEBA5F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BB19-D6BD-4462-9342-7454FC40947B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8FF0-766F-407E-BBD8-46AC8690B586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000D-03F2-4276-93EB-7A4F2E76AF7E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228A-78EF-448D-87C4-D05C2DE57A61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49A1-FC28-4146-8114-CB6D03B14CF9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9B19-DB22-4355-946B-9B0396367D2C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D450-A87D-4A52-9C9A-693FB6223985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8D9C-CD44-4E56-9CC0-1159BA12EB6E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D22A-C7FC-47CF-96E6-88B870DDAA7A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0676-B80E-4F30-8FED-53C3ADF20E8B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25F2-D17F-4F1A-B3EE-1702129B60D9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A221-3DAC-4F10-A0AB-C7F70A240FD4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9408-C82E-4231-A863-745E77FED6FB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EC74-C686-409B-8272-C8250079082C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C02B-2B7F-41AF-A344-4C0524CD199B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C159-FC91-4F08-8278-843A89231F08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C708-DBAD-4F31-8B9C-27BDA50288DD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3E2D-12D7-40A2-AD13-851C09235928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9B07-57E3-4305-829B-6F38BA3374AE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6CCA-1F13-47C9-9370-645D1B4B08E0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A33A-3013-46A1-BDF3-78C5CA3C89D1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39C3-610A-4041-BCE1-B5E9192546C9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A76C-A294-4DFB-A0DD-4E61A312579E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C22C-5E44-423D-BFE4-8C627C808788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98DC-11EF-487B-B9FC-7A56D466157B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1CBC-82E2-4F2F-B423-E8FCA9E1A8D6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3F36-F4E0-406C-A4B3-232C9649D650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CCFE-E466-4E16-BB08-1E077FBA1518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801C-0890-4A8C-98E5-545FD6D670CB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626A-880E-47FF-92EF-8338F00F0F7E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EBE1-FA03-4684-AA78-2023804B28F4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A7C5-528F-4DC6-8A76-071DEF1C9B5E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E3F0-5D3C-4D27-948A-1FA91688351B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D0A7-60D3-4241-AA48-C10E4B3829FE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0F65-D848-4F75-B995-F0121A72C8F5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DF68-EA65-4DB2-8258-64B5A7ACA7BB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9053-4025-4CFE-9895-957784568EB5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DDCE-5337-44D5-B982-83C6E688C15B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2593-6FAF-4C87-ADA4-B12592B07343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7D56-90F9-45B1-AB19-EF1D93C6BEF0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8B3E-D5DE-4A91-B357-2297CC2B7445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BAB6-AF47-4A6B-A381-3F343BA71056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C4F1-2011-4646-BFD5-2245EE7F2241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1C93-C425-45A1-87BA-60D0F553E6BF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E9D0-2192-493F-8F1C-19CD9EBE39DC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411B-072F-4987-B7EE-E4DB89D264E3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E91E-9CF1-41A0-B3E3-4D330ABC405C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B004-2E98-4DE5-AB44-90AF06258C3C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D2B4-B36B-4142-981D-4E734BE4D2C5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E789-173E-4E33-93C0-BB9BFB155705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398B-30C9-4C72-AACF-990E4221887C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ADEE-EE04-4D70-AC83-932AD0036296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914A-7C0E-488D-AE24-07A9F8AFE3B6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D024-4886-4FC9-BB5C-A46F324F3C8C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7910-7EA2-437E-9D88-47A46EBACF52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B16B-7AC2-4AB3-90D8-E4D3DC4C6E07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EF47-A747-4A4E-A599-2C1802F1F816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663D-0F26-47D0-951B-912497363CB3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FB78-476D-4026-B88D-143691B9097C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96A3-C190-4609-9DE2-5FFEF5AB5C09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5104-6FF8-48AD-97BC-ADDA5CEE3153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5155-F527-4D87-9708-4A982882FF35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9C91-B6F6-471E-83E0-0F7C0A6A614F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A5F7-2A98-4496-9FE8-9BFB676B9AFC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3049-719C-47C5-A7B4-040772B388D8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D3FB-4867-4AB7-9D2F-5036EA272301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0C85-5E72-4F88-92D6-A648B8CE7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5B74-E304-4205-95A7-A59874BA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7582-6539-4168-B9E0-D75313B8F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89A2-E067-4E30-B486-EF34B63DE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BAEE-8C69-4251-BB1E-E23B94E7D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FA98-2CC8-49EB-BC2F-A2519308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DDE4-16E4-4121-808D-EA54C735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1640-3D2E-4069-8EA7-F859619A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12E7-3C22-4EE3-A10D-B952FED0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457200"/>
            <a:ext cx="60958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399E-0AE9-4535-955E-6FF2D52A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98D0-3BEC-41B3-B214-6DE41293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983E-830E-47A0-846E-06DAD9AD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CEBD-C0A4-40A9-9B0A-72F29587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CA0D-2086-4318-974B-2607E191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47C5-EFF0-4761-9957-88E81B51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CEDE-122C-4D5B-8316-F4AD290EB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07BC-BF81-4CA8-806A-52C305ADF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15B0-11B1-4808-B34A-0E24DE5B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7CB8-3B34-4797-8447-AD98C112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7DE9-62AC-43AE-98B7-F9BFCB66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457200"/>
            <a:ext cx="60958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5337-8CDB-41BC-B5B7-64F2AC29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1930-8125-48D5-B9F1-08286B01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4420-8D0B-4FC9-A497-F59601DC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2A59-0CF4-4078-9706-458AA1DA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5480" cy="60181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18120"/>
              <a:gd name="textAreaBottom" fmla="*/ 6018480 h 60181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7982-9762-4CCF-BCF1-4C93BE4842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5480" cy="60181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18120"/>
              <a:gd name="textAreaBottom" fmla="*/ 6018480 h 60181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22E3-3F32-4B78-8A17-834288E6D4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4640" y="228240"/>
            <a:ext cx="6399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"/>
              </a:rPr>
              <a:t>Trauma Overview</a:t>
            </a:r>
            <a:endParaRPr b="1" lang="en-US" sz="6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114800" y="1752480"/>
            <a:ext cx="4648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avid B. Reedy, M.D., FACEP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ontra Costa Regional Medical       Cente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ssistant Clinical Professor UCSF/SFGH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4038480" y="220968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056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Blunt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90560" y="1600200"/>
            <a:ext cx="60958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XR-widened mediastinum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2895480" y="2075040"/>
            <a:ext cx="5334120" cy="45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Blunt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ortic injur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80-90% of patients with thoracic aortic rupture die in the pre-hospital setting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Those who survive may have minimal initial symptom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CXR may be first clue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Penetrating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mergency Department Thoracotom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The surgeon who should attempt to suture a wound of the heart would lose the respect of his surgical colleagues” - Theodore Bilroth, 1882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Penetrating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mergency Department Thoracotom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971800" y="30481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Penetrating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mergency Department Thoracotom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Indications 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enetrating thoracic traumatic arrest with previously witnessed cardiac activit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enetrating thoracic unresponsive hypotens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0962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Penetrating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14240" y="137160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mergency Department Thoracotom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85800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Penetrating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mergency Department Thoracotom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Contraindication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Blunt thoracic injuries with no witnessed cardiac activit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ultiple blunt traum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evere head injur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Penetrating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mergency Department Thoracotom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ACLS algorithms do NOT apply to traumatic arrest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 FAST Exam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3352680" y="2590920"/>
            <a:ext cx="514512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666880" y="182880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8000"/>
          </a:bodyPr>
          <a:p>
            <a:pPr marL="164520" indent="-16452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Focused Assessment with Sonography for Trauma (FAST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356400" indent="-13716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Limited ultrasound exam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356400" indent="-13716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Directed solely at identifying the presence of free intraperitoneal or pericardial fluid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356400" indent="-13716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Free fluid is usually due to hemorrhage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356400" indent="-13716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Helps determine the need for OR, CT, or angiography 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is an injury caused by a physical force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otor vehicle collision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all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Gun sho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tabb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urn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lunt assaul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AST examines four areas for free fluid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graphicFrame>
        <p:nvGraphicFramePr>
          <p:cNvPr id="140" name="Object 7"/>
          <p:cNvGraphicFramePr/>
          <p:nvPr/>
        </p:nvGraphicFramePr>
        <p:xfrm>
          <a:off x="3809880" y="2847960"/>
          <a:ext cx="4343400" cy="40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847960"/>
                    <a:ext cx="4343400" cy="40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3" name="Picture 9" descr="GelOnProbe"/>
          <p:cNvPicPr/>
          <p:nvPr/>
        </p:nvPicPr>
        <p:blipFill>
          <a:blip r:embed="rId1"/>
          <a:stretch/>
        </p:blipFill>
        <p:spPr>
          <a:xfrm>
            <a:off x="3048120" y="2819520"/>
            <a:ext cx="6095880" cy="38862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5715000" y="1295280"/>
            <a:ext cx="297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Low Frequency Prob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2.5 - 5.0 MHz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issue Penetra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609480" y="228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rauma Ultrasonography 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19160" y="19051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erihepatic and hepato-rena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3352680" y="2590920"/>
            <a:ext cx="495324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819160" y="1828440"/>
            <a:ext cx="601956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1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51" name="Picture 4" descr="03050G10z"/>
          <p:cNvPicPr/>
          <p:nvPr/>
        </p:nvPicPr>
        <p:blipFill>
          <a:blip r:embed="rId1"/>
          <a:stretch/>
        </p:blipFill>
        <p:spPr>
          <a:xfrm>
            <a:off x="2971800" y="2057400"/>
            <a:ext cx="573876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19160" y="1676160"/>
            <a:ext cx="609588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54" name="Picture 4" descr="03050G10ZL"/>
          <p:cNvPicPr/>
          <p:nvPr/>
        </p:nvPicPr>
        <p:blipFill>
          <a:blip r:embed="rId1"/>
          <a:stretch/>
        </p:blipFill>
        <p:spPr>
          <a:xfrm>
            <a:off x="3124080" y="1905120"/>
            <a:ext cx="5738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819160" y="1904760"/>
            <a:ext cx="609588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57" name="Picture 4" descr="03080G10z"/>
          <p:cNvPicPr/>
          <p:nvPr/>
        </p:nvPicPr>
        <p:blipFill>
          <a:blip r:embed="rId1"/>
          <a:stretch/>
        </p:blipFill>
        <p:spPr>
          <a:xfrm>
            <a:off x="3048120" y="2057400"/>
            <a:ext cx="57387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819160" y="1904760"/>
            <a:ext cx="609588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60" name="Picture 4" descr="03080G10ZL"/>
          <p:cNvPicPr/>
          <p:nvPr/>
        </p:nvPicPr>
        <p:blipFill>
          <a:blip r:embed="rId1"/>
          <a:stretch/>
        </p:blipFill>
        <p:spPr>
          <a:xfrm>
            <a:off x="2971800" y="2057400"/>
            <a:ext cx="57387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pleno-rena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3429000" y="2666880"/>
            <a:ext cx="52578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819160" y="1904760"/>
            <a:ext cx="609588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66" name="Picture 4" descr="03325G30ZL"/>
          <p:cNvPicPr/>
          <p:nvPr/>
        </p:nvPicPr>
        <p:blipFill>
          <a:blip r:embed="rId1"/>
          <a:stretch/>
        </p:blipFill>
        <p:spPr>
          <a:xfrm>
            <a:off x="2971800" y="1676520"/>
            <a:ext cx="57387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666880" y="1676160"/>
            <a:ext cx="609624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69" name="Picture 4" descr="03380G10ZL"/>
          <p:cNvPicPr/>
          <p:nvPr/>
        </p:nvPicPr>
        <p:blipFill>
          <a:blip r:embed="rId1"/>
          <a:stretch/>
        </p:blipFill>
        <p:spPr>
          <a:xfrm>
            <a:off x="3124080" y="1905120"/>
            <a:ext cx="573876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42840" y="457200"/>
            <a:ext cx="6095880" cy="13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Advanced Trauma Life Suppor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merican College of Surgeon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rovides a framework for the management of the injured patien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ntended to allow the single doctor in a rural hospital to assess and manage trauma patient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elvi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3429000" y="2666880"/>
            <a:ext cx="52578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819160" y="1904760"/>
            <a:ext cx="609588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75" name="Picture 4" descr="03530G10ZL"/>
          <p:cNvPicPr/>
          <p:nvPr/>
        </p:nvPicPr>
        <p:blipFill>
          <a:blip r:embed="rId1"/>
          <a:stretch/>
        </p:blipFill>
        <p:spPr>
          <a:xfrm>
            <a:off x="3048120" y="2209680"/>
            <a:ext cx="573876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819160" y="1904760"/>
            <a:ext cx="609588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78" name="Picture 4" descr="03550G30ZL"/>
          <p:cNvPicPr/>
          <p:nvPr/>
        </p:nvPicPr>
        <p:blipFill>
          <a:blip r:embed="rId1"/>
          <a:stretch/>
        </p:blipFill>
        <p:spPr>
          <a:xfrm>
            <a:off x="3048120" y="2209680"/>
            <a:ext cx="573876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ericardium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3429000" y="2666880"/>
            <a:ext cx="541008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819160" y="1904760"/>
            <a:ext cx="609588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84" name="pericard effusion.mov" descr="Macintosh HD:Users:davidreedy:Desktop:Trauma US Video 2.1:pericard effusion.mov"/>
          <p:cNvPicPr/>
          <p:nvPr/>
        </p:nvPicPr>
        <p:blipFill>
          <a:blip r:embed="rId1"/>
          <a:stretch/>
        </p:blipFill>
        <p:spPr>
          <a:xfrm>
            <a:off x="3733920" y="2362320"/>
            <a:ext cx="44956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538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lunt Abdominal Trauma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Not for bowel injury, solid organ injury, or retroperitoneal injury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Detection of free intraperitoneal or pericardial fluid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026" descr=""/>
          <p:cNvPicPr/>
          <p:nvPr/>
        </p:nvPicPr>
        <p:blipFill>
          <a:blip r:embed="rId1"/>
          <a:stretch/>
        </p:blipFill>
        <p:spPr>
          <a:xfrm>
            <a:off x="1395360" y="379440"/>
            <a:ext cx="635148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395360" y="379440"/>
            <a:ext cx="635148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819160" y="152280"/>
            <a:ext cx="6095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742840" y="1371240"/>
            <a:ext cx="60958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Fast Exam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xtended Fast Exam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Anterior lung apices for pneumothorax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Lung bases for pleural fluid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564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graphicFrame>
        <p:nvGraphicFramePr>
          <p:cNvPr id="191" name="Object 0"/>
          <p:cNvGraphicFramePr/>
          <p:nvPr/>
        </p:nvGraphicFramePr>
        <p:xfrm>
          <a:off x="3276720" y="2971800"/>
          <a:ext cx="386712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971800"/>
                    <a:ext cx="38671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Rectangle 9"/>
          <p:cNvSpPr/>
          <p:nvPr/>
        </p:nvSpPr>
        <p:spPr>
          <a:xfrm>
            <a:off x="4800600" y="3733920"/>
            <a:ext cx="76320" cy="380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42840" y="-36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819160" y="1066680"/>
            <a:ext cx="609588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96" name="PTX normal.mov" descr="Macintosh HD:Users:davidreedy:Desktop:Trauma US Video 2.1:PTX normal.mov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945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ATLS Origins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ebraska, 1976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lane crash in a Nebraska field changed the face of trauma care throughout the world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edical, EMS, and Nursing groups began to collate protocols for trauma managemen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CS publishes ATLS in 1980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90560" y="1143000"/>
            <a:ext cx="609588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99" name="PTX positive.mov" descr="Macintosh HD:Users:davidreedy:Desktop:Trauma US Video 2.1:PTX positive.mov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4946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" dur="1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2819520" y="60948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19160" y="304560"/>
            <a:ext cx="60958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                          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Clinician based ultrasound has changed the way trauma care is practiced and is rapidly becoming standard of care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Noninvasive, straightforward, relatively short training period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Multiple training courses exist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Focused exam, goal specific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90920" y="533520"/>
            <a:ext cx="63244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ATLS 8th Edition, 2008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30 year anniversar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est evidence” based (i.e. spinal steroids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evised pediatric guidelin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isaster managemen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99840" y="3805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he Knife and Gun Club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114800" y="1904760"/>
            <a:ext cx="35812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1"/>
          <a:stretch/>
        </p:blipFill>
        <p:spPr>
          <a:xfrm>
            <a:off x="3886200" y="1143000"/>
            <a:ext cx="4149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Blunt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2819520" y="1839960"/>
            <a:ext cx="609588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Blunt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irwa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Look for associated injurie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Remember c-spine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4495680" y="3048120"/>
            <a:ext cx="1490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Blunt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reath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Respiratory rate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Paradoxical motion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Crepitu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ubcutaneous air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Auscultation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Blunt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828440" y="1371600"/>
            <a:ext cx="6095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XR-pneumothorax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Tracheal deviation, hypotension, hypoxemia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5029200" y="2362320"/>
            <a:ext cx="37116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Blunt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ircula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Hypotension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Hypovolemi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neumothorax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ardiac tamponad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ortic Injur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Blunt cardiac injur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rrhythmia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SR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1T10:14:08Z</dcterms:created>
  <dc:creator>dave</dc:creator>
  <dc:description/>
  <dc:language>en-US</dc:language>
  <cp:lastModifiedBy>HCMARTINEZ</cp:lastModifiedBy>
  <dcterms:modified xsi:type="dcterms:W3CDTF">2009-08-06T19:03:16Z</dcterms:modified>
  <cp:revision>45</cp:revision>
  <dc:subject/>
  <dc:title>Trauma Overview</dc:title>
</cp:coreProperties>
</file>